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25.wmf" ContentType="image/x-wmf"/>
  <Override PartName="/ppt/media/image2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0F6C6-E375-4E45-B19B-5A26FDDD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D8E18-87C4-48CD-B0D7-4024B1F5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8F59F-602F-4F48-B58F-39D1239E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8B73C-20D3-468D-BC85-EE14A670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F98A1-1D1E-4C4C-A5F2-5772DF0A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4A349-C755-4F8B-95FA-276C0F47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0A0A3-32C3-4FB0-A32C-233412BC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132B2-41D2-450B-BD43-8F1B9F77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36D76-04FF-4C14-A61D-D9E8A128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750E2-7AC4-40A8-B05B-48431945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1E90B-4F77-401D-9CBD-6AFED337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F3ABA-6826-4B36-8713-FF44D8C8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C55D5-7EFD-44D0-996B-7C227EC8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5FD33-FA0F-4155-8626-151958D5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12E11-6998-4AB7-B6A0-A016F395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8C987-9019-44B0-9148-6862E08E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1F757-21BA-4D1B-BEEF-DAA29397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7720C-8D49-46D0-A78F-37EA72A7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872A8-8BB2-43CA-9271-BB83FA94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D31FA-2C68-4999-8165-902D47B2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E3C11-5BFB-423C-99EF-D2D79740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C4440-4466-4D1E-94BC-53860803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651AE-CFB9-4A75-BD38-36894E05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A1FDC-57B3-4FE1-80B8-390D5997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83805-D4A6-48FB-8DB9-6A8E55E2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0511C-F869-4123-AD70-93A6D1EE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8A334-AAC0-45A3-A599-4B9809B7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4C80A-0B01-4C50-9AEE-969BB389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3B73B-0475-46C2-951B-0AF6F08E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3945B-DD02-45F4-A026-9E821E2A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8242-AE4D-4C17-81C7-47FE0C4F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55070-2EE2-48A2-AB48-35B75DD8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7F7B2-B4F6-4023-8A3E-D2ECFFF7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E4396-BBF9-4CB1-872C-5180BB70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9A896-138D-4992-9962-247BF397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5384A-EE15-4905-9E1F-82DC9D57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C122F-992B-40D9-8B39-BA06D625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12563-432B-470C-9DAA-1D5AB79D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46466-791C-4908-BD79-4B4EA34F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E9340-087F-415D-9C1F-3C920DF2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5E498-8A58-466A-961A-62BF7878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3FE8-E79E-4A84-AB30-5081D078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A466D-2736-4943-9A81-1E9DA73F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FF9D2-A641-477A-A57D-835C20F2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3FBF1-C81B-4B6A-A997-FA248F34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5F24E-3110-48FA-8436-8F32F1C4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C8ECF-FE48-4A52-8B67-9295C43C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4DEEE-9458-44C9-8B59-ADCA7772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979B4-BD66-4A3C-8FC9-EFFFDB18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6AF6E-F750-4027-9D37-7527C5E9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1DD79-356C-4F89-AE12-A3F05C74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B26E1-C4D9-434B-8975-57E8A95F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14C-FD3C-4AAE-BE1C-F9689C22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B6023-CF06-438B-A579-A80B9789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ED7CD-2675-4AC6-BFC0-5EDD5BEF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4F3B1-800D-45D4-9F06-51FE90DA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57DB9-85E1-46E0-8A9B-8059BBF2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2049E-FA34-4C48-A7B3-822E3B7F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31C32-802F-4D69-89CC-EE76B357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861FA-39D0-460D-99D9-979F566C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0E883-9303-4FFA-8F75-7865A351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B27B0-2381-416D-BD5D-32F4E761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1C82C-ACF0-40CA-9A62-BC167BB2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DD6F-624A-469C-9E9B-B44FCA24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6D9A0-3872-4900-BBCC-598DAE8F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1CA39-4E69-497E-AFB6-E2BD2608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4F589-D618-4895-80E2-79F303AA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C9B14-98E5-46DB-A6DB-E768CF5B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79A3D-C0C4-459F-A1CB-A3AFFBCB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5DA3A-3F26-4885-99C5-3EAAF508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EF978-6BF1-40C0-BEF1-C6673EB6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0B646-33A4-4AAF-9EC2-A5A80D30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345F3-192B-4FC5-B1DE-7982A582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E55212-5A65-4184-AD08-52E570DF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788-BB91-4035-9132-3D73510F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2F3E8D-C103-4631-B8BC-F5C6804E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6AB56-90C0-40F6-9B00-A8250AF0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039F9-D960-44A9-9122-132447EE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AEBFA-39DB-4C96-8910-BCA22AD6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1C47F2-C8C1-49F7-8CC6-591AFD9E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1A893E-6BEF-4626-AF7C-8FEB85A6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BCA80-4801-4350-9776-8DB89B2D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35ADC2-1484-4123-8C7C-882FC849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1E4AA9-5B47-47A9-BCF6-C7CE9123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413B1-71E9-4F33-AFC6-1583A5DF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568-2526-45DF-AE23-EA1A33EF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5CD5F-59C2-42FE-90B4-7E52793F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EFD-786C-4464-BC66-4586861E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012-8D80-4E0A-A577-49D0F659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1FC-3DC6-4AA2-A97C-D03EECC8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906-6D28-4AA0-840F-D08BF1BE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70AF-4295-4D66-AD5A-63D69F33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094-0A87-4364-A647-9CB3644D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8EF9-30D6-44D8-912B-F381C964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1DED-2925-4A99-8121-9D4EEDA0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2BB7-17BA-41D7-A213-0A7CBAC8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49CA-F8EF-4F0A-BDC6-1F57CE31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7F86-C202-4837-8256-5CEBE961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DF35-DDF8-421B-9422-37C48EC0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C524-29AB-4C49-A46C-8ED5CEAA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B6A0-9A94-42E2-995C-7110F505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EC78-D4FF-4595-A155-82BFD7D0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5E90-B008-4E03-B196-42886FF7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BECC-C378-4C74-AD7A-F8510626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4C84-9031-4CC3-ABD9-529FCB4F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DC5E9-802D-461C-A491-485009F3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9A931-B21A-4651-874D-74A662F6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F0133-8530-4D5B-86FE-1951BCA2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42BD3-2C19-4D73-B0C5-79ED777E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7325D-7863-49E7-A0B5-9DD11A41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0FD4B-A979-431D-A296-1BC5232C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98B84-FEDD-4158-9868-DA7008C8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6CB53-FF3D-451D-92BE-7EA2E6F7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BAE99-DFD1-41A6-B649-FB3D9DA9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79879-2F3D-4089-8B57-937B54DE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A0C14-76C6-4760-A69B-D7E6D95B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8AE46-FA6E-45C3-A2B3-7BB2AC09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BD638-8742-4195-9301-45A6F2B2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C50A8-B21A-42A5-AF34-5C2FEA1F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63975-C432-40D0-974A-F879B344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95000-07FB-470E-9F8F-3CBC34A0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AFA32-D6B9-4194-A644-29A3EF53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FD17F-A4FE-468C-A05B-E051382B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C07F0-CA2F-4CCA-9A0A-30BE3CB7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B4EAE-45BA-4135-9851-108F7BA6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B1B97-4E23-4FD4-B28D-29CC9DDB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998CD-DE00-40C6-BBBD-193E4A22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0A014-7E87-4FA0-9042-55D4B27D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82E7B-C2E8-4B2D-92E2-076C3B8C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2798E-F559-465C-A367-27E18647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93114-6D89-4FCA-A650-420BB117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1CB9C-9E12-4E4D-B2F7-0DB7FED8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16C93-54A6-413E-9B74-AD21EDF6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9A129-992F-4A3C-BC89-B041A1DC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F6716-DF47-4C75-B19D-C62675BD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F0ABA-BB74-4E7A-8EDF-12110BE1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0097D-BDB5-4DBB-85F8-E0ACE2DC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6992C-88C5-4FA5-A9A6-45DCD1C1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6C6A7-631A-4F4B-B71B-FAC146DB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F6B58-C70E-4B4A-8263-3E4F943F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C3CB1-C05C-4E0C-ACA0-12D91E4B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C2D90-0969-4B9E-9C19-F45D2187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AC647-E391-4287-B24B-6982CE3E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0795B-B5B9-4556-A3CF-92484114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DCE99-0597-4E29-A150-9FDBDD8C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12834-612E-467F-BD03-D1EF363A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962E8-9EFC-405C-9AFB-35F19F04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85D8B-AF9A-406A-8A4F-42563830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F4AF8-061C-43AD-9387-07C6D55A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D45A6-C421-4E1F-A115-D0343D9A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497C3-6C1F-4FD5-9871-4082874C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F816F-D095-4C2B-A62B-846774A0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601D3-C254-4D58-90EF-349DDCC0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D465C-84DC-47E6-A6A4-18CFC3A3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3E130-9A0F-41D2-BA41-B03F3CA9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DCB2D-1D04-4E0E-A214-66AB1D12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78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0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F8B9-42A7-4F99-9598-C0AC43F487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23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0" y="0"/>
              <a:ext cx="673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5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78B4-4BDB-49FA-AFEE-CA9827CFD8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68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0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25560">
            <a:solidFill>
              <a:srgbClr val="50742f"/>
            </a:solidFill>
            <a:miter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D4B6-0569-41AA-AD2D-E7BFE00F5FA3}" type="slidenum">
              <a:rPr b="0" lang="en-US" sz="1200" spc="-1" strike="noStrike">
                <a:solidFill>
                  <a:srgbClr val="ffffff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513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5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946C-AA50-428E-B7DE-67F84E6F2F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558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0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0FB9-FC1C-4206-BA10-B5ABD0B44F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A3A1-7059-439C-B2D6-005C517CB7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36FC-1C82-431D-9913-0D528E4765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6" descr=""/>
          <p:cNvPicPr/>
          <p:nvPr/>
        </p:nvPicPr>
        <p:blipFill>
          <a:blip r:embed="rId3"/>
          <a:stretch/>
        </p:blipFill>
        <p:spPr>
          <a:xfrm>
            <a:off x="-6480" y="5205240"/>
            <a:ext cx="1481400" cy="1659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B504-0531-436C-BAAB-37FD49F2E5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15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2485-9636-4D4A-B9D8-F59530564C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6" descr=""/>
          <p:cNvPicPr/>
          <p:nvPr/>
        </p:nvPicPr>
        <p:blipFill>
          <a:blip r:embed="rId3"/>
          <a:stretch/>
        </p:blipFill>
        <p:spPr>
          <a:xfrm>
            <a:off x="7473960" y="-6480"/>
            <a:ext cx="1676520" cy="23716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73D5-4E7C-40AB-A8CC-E4BAAF03C9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矩形 6"/>
          <p:cNvGrpSpPr/>
          <p:nvPr/>
        </p:nvGrpSpPr>
        <p:grpSpPr>
          <a:xfrm>
            <a:off x="-6480" y="-6480"/>
            <a:ext cx="665280" cy="6870960"/>
            <a:chOff x="-6480" y="-6480"/>
            <a:chExt cx="665280" cy="6870960"/>
          </a:xfrm>
        </p:grpSpPr>
        <p:pic>
          <p:nvPicPr>
            <p:cNvPr id="243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652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655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853A-443C-49BD-9F57-53C8424B32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矩形 6"/>
          <p:cNvGrpSpPr/>
          <p:nvPr/>
        </p:nvGrpSpPr>
        <p:grpSpPr>
          <a:xfrm>
            <a:off x="-6480" y="-6480"/>
            <a:ext cx="652680" cy="6870960"/>
            <a:chOff x="-6480" y="-6480"/>
            <a:chExt cx="652680" cy="6870960"/>
          </a:xfrm>
        </p:grpSpPr>
        <p:pic>
          <p:nvPicPr>
            <p:cNvPr id="288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52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0" y="0"/>
              <a:ext cx="6415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0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E4F3-0A95-4B90-937E-6D49D01D3E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33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5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CAB4-8573-4071-B245-5B977E6C14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WordArt 6" descr=""/>
          <p:cNvPicPr/>
          <p:nvPr/>
        </p:nvPicPr>
        <p:blipFill>
          <a:blip r:embed="rId1"/>
          <a:stretch/>
        </p:blipFill>
        <p:spPr>
          <a:xfrm>
            <a:off x="2687760" y="2951280"/>
            <a:ext cx="376848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Oval 4"/>
          <p:cNvSpPr/>
          <p:nvPr/>
        </p:nvSpPr>
        <p:spPr>
          <a:xfrm>
            <a:off x="5326200" y="1719360"/>
            <a:ext cx="2376360" cy="2376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1042920" y="119700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1042920" y="765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圆心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我们把顶点在圆心的角叫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圆心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6045120" y="2583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Group 17"/>
          <p:cNvGrpSpPr/>
          <p:nvPr/>
        </p:nvGrpSpPr>
        <p:grpSpPr>
          <a:xfrm>
            <a:off x="6516720" y="1484280"/>
            <a:ext cx="2232000" cy="2520720"/>
            <a:chOff x="6516720" y="1484280"/>
            <a:chExt cx="2232000" cy="2520720"/>
          </a:xfrm>
        </p:grpSpPr>
        <p:sp>
          <p:nvSpPr>
            <p:cNvPr id="649" name="Text Box 10"/>
            <p:cNvSpPr/>
            <p:nvPr/>
          </p:nvSpPr>
          <p:spPr>
            <a:xfrm>
              <a:off x="7453080" y="348444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 Box 11"/>
            <p:cNvSpPr/>
            <p:nvPr/>
          </p:nvSpPr>
          <p:spPr>
            <a:xfrm>
              <a:off x="7091280" y="14842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5"/>
            <p:cNvSpPr/>
            <p:nvPr/>
          </p:nvSpPr>
          <p:spPr>
            <a:xfrm>
              <a:off x="6516720" y="2924280"/>
              <a:ext cx="1008000" cy="64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6"/>
            <p:cNvSpPr/>
            <p:nvPr/>
          </p:nvSpPr>
          <p:spPr>
            <a:xfrm flipV="1">
              <a:off x="6516720" y="2203560"/>
              <a:ext cx="936360" cy="72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21"/>
          <p:cNvGrpSpPr/>
          <p:nvPr/>
        </p:nvGrpSpPr>
        <p:grpSpPr>
          <a:xfrm>
            <a:off x="1850040" y="4005360"/>
            <a:ext cx="5586120" cy="1557000"/>
            <a:chOff x="1850040" y="4005360"/>
            <a:chExt cx="5586120" cy="1557000"/>
          </a:xfrm>
        </p:grpSpPr>
        <p:sp>
          <p:nvSpPr>
            <p:cNvPr id="654" name="Text Box 19"/>
            <p:cNvSpPr/>
            <p:nvPr/>
          </p:nvSpPr>
          <p:spPr>
            <a:xfrm>
              <a:off x="1850040" y="4005360"/>
              <a:ext cx="5586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在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⊙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，∠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O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就是圆心角，弦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这个圆心角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所对的弦，    是它所对的弧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5" name="Object 20"/>
            <p:cNvGraphicFramePr/>
            <p:nvPr/>
          </p:nvGraphicFramePr>
          <p:xfrm>
            <a:off x="2359080" y="4932000"/>
            <a:ext cx="576000" cy="49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6" name="Object 2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59080" y="4932000"/>
                      <a:ext cx="576000" cy="49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12">
            <a:hlinkClick r:id="" action="ppaction://hlinkshowjump?jump=nextslide"/>
          </p:cNvPr>
          <p:cNvSpPr/>
          <p:nvPr/>
        </p:nvSpPr>
        <p:spPr>
          <a:xfrm>
            <a:off x="431640" y="549360"/>
            <a:ext cx="8280720" cy="3816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Group 25"/>
          <p:cNvGrpSpPr/>
          <p:nvPr/>
        </p:nvGrpSpPr>
        <p:grpSpPr>
          <a:xfrm>
            <a:off x="5459400" y="1974600"/>
            <a:ext cx="2826720" cy="2071440"/>
            <a:chOff x="5459400" y="1974600"/>
            <a:chExt cx="2826720" cy="2071440"/>
          </a:xfrm>
        </p:grpSpPr>
        <p:sp>
          <p:nvSpPr>
            <p:cNvPr id="659" name="AutoShape 21"/>
            <p:cNvSpPr/>
            <p:nvPr/>
          </p:nvSpPr>
          <p:spPr>
            <a:xfrm rot="745200">
              <a:off x="6962400" y="2093760"/>
              <a:ext cx="1224000" cy="10587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AutoShape 23"/>
            <p:cNvSpPr/>
            <p:nvPr/>
          </p:nvSpPr>
          <p:spPr>
            <a:xfrm rot="11520000">
              <a:off x="5555880" y="2871000"/>
              <a:ext cx="1224000" cy="10591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Text Box 4"/>
          <p:cNvSpPr/>
          <p:nvPr/>
        </p:nvSpPr>
        <p:spPr>
          <a:xfrm>
            <a:off x="719280" y="83664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图，将圆心角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绕圆心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旋转到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’OB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位置，你能发现哪些等量关系？为什么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324000" y="4581360"/>
            <a:ext cx="87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根据旋转的性质，将圆心角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绕圆心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旋转到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′O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位置时，显然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OB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＝∠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′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OB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射线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OA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与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O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重合，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OB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与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OB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重合．而同圆的半径相等，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OA=O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OB=OB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从而点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与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重合，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与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重合．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20"/>
          <p:cNvSpPr/>
          <p:nvPr/>
        </p:nvSpPr>
        <p:spPr>
          <a:xfrm>
            <a:off x="5651640" y="1773360"/>
            <a:ext cx="2449440" cy="24494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24"/>
          <p:cNvSpPr/>
          <p:nvPr/>
        </p:nvSpPr>
        <p:spPr>
          <a:xfrm rot="16320000">
            <a:off x="5770440" y="1846080"/>
            <a:ext cx="1224000" cy="10587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26"/>
          <p:cNvSpPr/>
          <p:nvPr/>
        </p:nvSpPr>
        <p:spPr>
          <a:xfrm>
            <a:off x="6516720" y="3068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27"/>
          <p:cNvSpPr/>
          <p:nvPr/>
        </p:nvSpPr>
        <p:spPr>
          <a:xfrm>
            <a:off x="8101080" y="3141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28"/>
          <p:cNvSpPr/>
          <p:nvPr/>
        </p:nvSpPr>
        <p:spPr>
          <a:xfrm>
            <a:off x="7667640" y="17589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Group 37"/>
          <p:cNvGrpSpPr/>
          <p:nvPr/>
        </p:nvGrpSpPr>
        <p:grpSpPr>
          <a:xfrm>
            <a:off x="1284120" y="1974600"/>
            <a:ext cx="2826720" cy="2071440"/>
            <a:chOff x="1284120" y="1974600"/>
            <a:chExt cx="2826720" cy="2071440"/>
          </a:xfrm>
        </p:grpSpPr>
        <p:sp>
          <p:nvSpPr>
            <p:cNvPr id="669" name="AutoShape 38"/>
            <p:cNvSpPr/>
            <p:nvPr/>
          </p:nvSpPr>
          <p:spPr>
            <a:xfrm rot="745200">
              <a:off x="2787120" y="2093760"/>
              <a:ext cx="1224000" cy="10587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AutoShape 39"/>
            <p:cNvSpPr/>
            <p:nvPr/>
          </p:nvSpPr>
          <p:spPr>
            <a:xfrm rot="11520000">
              <a:off x="1380600" y="2871000"/>
              <a:ext cx="1224000" cy="10591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Oval 40"/>
          <p:cNvSpPr/>
          <p:nvPr/>
        </p:nvSpPr>
        <p:spPr>
          <a:xfrm>
            <a:off x="1476360" y="1773360"/>
            <a:ext cx="2449440" cy="24494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41"/>
          <p:cNvSpPr/>
          <p:nvPr/>
        </p:nvSpPr>
        <p:spPr>
          <a:xfrm rot="16320000">
            <a:off x="1595160" y="1846080"/>
            <a:ext cx="1224000" cy="10587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42"/>
          <p:cNvSpPr/>
          <p:nvPr/>
        </p:nvSpPr>
        <p:spPr>
          <a:xfrm>
            <a:off x="2341440" y="306864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43"/>
          <p:cNvSpPr/>
          <p:nvPr/>
        </p:nvSpPr>
        <p:spPr>
          <a:xfrm>
            <a:off x="3925800" y="3141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4"/>
          <p:cNvSpPr/>
          <p:nvPr/>
        </p:nvSpPr>
        <p:spPr>
          <a:xfrm>
            <a:off x="3492360" y="1701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45"/>
          <p:cNvSpPr/>
          <p:nvPr/>
        </p:nvSpPr>
        <p:spPr>
          <a:xfrm flipH="1">
            <a:off x="2628360" y="1413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46"/>
          <p:cNvSpPr/>
          <p:nvPr/>
        </p:nvSpPr>
        <p:spPr>
          <a:xfrm flipH="1">
            <a:off x="1189800" y="20541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47"/>
          <p:cNvSpPr/>
          <p:nvPr/>
        </p:nvSpPr>
        <p:spPr>
          <a:xfrm flipH="1">
            <a:off x="6803280" y="14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48"/>
          <p:cNvSpPr/>
          <p:nvPr/>
        </p:nvSpPr>
        <p:spPr>
          <a:xfrm flipH="1">
            <a:off x="5436360" y="20541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0" name="Object 51"/>
          <p:cNvGraphicFramePr/>
          <p:nvPr/>
        </p:nvGraphicFramePr>
        <p:xfrm>
          <a:off x="2224080" y="6093000"/>
          <a:ext cx="1584360" cy="54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1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6093000"/>
                    <a:ext cx="158436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Object 52"/>
          <p:cNvGraphicFramePr/>
          <p:nvPr/>
        </p:nvGraphicFramePr>
        <p:xfrm>
          <a:off x="4091040" y="6149880"/>
          <a:ext cx="1968480" cy="4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3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91040" y="6149880"/>
                    <a:ext cx="196848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4" name="Group 55"/>
          <p:cNvGrpSpPr/>
          <p:nvPr/>
        </p:nvGrpSpPr>
        <p:grpSpPr>
          <a:xfrm>
            <a:off x="2445120" y="5537160"/>
            <a:ext cx="4110840" cy="517680"/>
            <a:chOff x="2445120" y="5537160"/>
            <a:chExt cx="4110840" cy="517680"/>
          </a:xfrm>
        </p:grpSpPr>
        <p:sp>
          <p:nvSpPr>
            <p:cNvPr id="685" name="Rectangle 53"/>
            <p:cNvSpPr/>
            <p:nvPr/>
          </p:nvSpPr>
          <p:spPr>
            <a:xfrm>
              <a:off x="2445120" y="5610240"/>
              <a:ext cx="411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因此，</a:t>
              </a:r>
              <a:r>
                <a:rPr b="1" i="1" lang="zh-CN" sz="2000" spc="-1" strike="noStrike">
                  <a:solidFill>
                    <a:srgbClr val="ff0000"/>
                  </a:solidFill>
                  <a:latin typeface="Times New Roman"/>
                </a:rPr>
                <a:t>                       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重合，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与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′B′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重合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．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6" name="Object 54"/>
            <p:cNvGraphicFramePr/>
            <p:nvPr/>
          </p:nvGraphicFramePr>
          <p:xfrm>
            <a:off x="2592360" y="5537160"/>
            <a:ext cx="1474920" cy="517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87" name="Object 5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92360" y="5537160"/>
                      <a:ext cx="1474920" cy="51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88" name="Group 56"/>
          <p:cNvGrpSpPr/>
          <p:nvPr/>
        </p:nvGrpSpPr>
        <p:grpSpPr>
          <a:xfrm>
            <a:off x="128520" y="122400"/>
            <a:ext cx="2859120" cy="930240"/>
            <a:chOff x="128520" y="122400"/>
            <a:chExt cx="2859120" cy="930240"/>
          </a:xfrm>
        </p:grpSpPr>
        <p:sp>
          <p:nvSpPr>
            <p:cNvPr id="689" name="Rectangle 57"/>
            <p:cNvSpPr/>
            <p:nvPr/>
          </p:nvSpPr>
          <p:spPr>
            <a:xfrm>
              <a:off x="898200" y="122400"/>
              <a:ext cx="2089440" cy="684360"/>
            </a:xfrm>
            <a:prstGeom prst="rect">
              <a:avLst/>
            </a:prstGeom>
            <a:solidFill>
              <a:srgbClr val="50742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WordArt 58"/>
            <p:cNvSpPr txBox="1"/>
            <p:nvPr/>
          </p:nvSpPr>
          <p:spPr>
            <a:xfrm>
              <a:off x="1006200" y="230400"/>
              <a:ext cx="18734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一起探究</a:t>
              </a:r>
              <a:endParaRPr b="1" lang="en-US" sz="2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691" name="Picture 59" descr="bd07226_"/>
            <p:cNvPicPr/>
            <p:nvPr/>
          </p:nvPicPr>
          <p:blipFill>
            <a:blip r:embed="rId7"/>
            <a:stretch/>
          </p:blipFill>
          <p:spPr>
            <a:xfrm>
              <a:off x="128520" y="122400"/>
              <a:ext cx="657000" cy="930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25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01088 C -0.00799 0.00301 -0.02778 -0.0257 -0.04809 -0.03681 C -0.06841 -0.04792 -0.09688 -0.05764 -0.12171 -0.05533 C -0.14653 -0.05301 -0.17657 -0.03912 -0.1974 -0.02292 C -0.21823 -0.00672 -0.23646 0.02847 -0.24671 0.04189 E">
                                      <p:cBhvr>
                                        <p:cTn id="27" dur="2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324 C -0.00452 -0.01111 -0.00295 -0.05579 -0.00677 -0.08287 C -0.01059 -0.10996 -0.01389 -0.13496 -0.02691 -0.1588 C -0.03993 -0.18264 -0.06597 -0.20996 -0.08524 -0.22547 C -0.10452 -0.24098 -0.13108 -0.2463 -0.14306 -0.25186 E">
                                      <p:cBhvr>
                                        <p:cTn id="29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4"/>
          <p:cNvSpPr/>
          <p:nvPr/>
        </p:nvSpPr>
        <p:spPr>
          <a:xfrm>
            <a:off x="468360" y="3141720"/>
            <a:ext cx="6119640" cy="25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同圆或等圆中，如果两条弧相等，那么它们所对的圆心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 所对的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同圆或等圆中，如果两条弦相等，那么他们所对的圆心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所对的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6"/>
          <p:cNvSpPr/>
          <p:nvPr/>
        </p:nvSpPr>
        <p:spPr>
          <a:xfrm>
            <a:off x="395280" y="83664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样，我们就得到下面的定理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13"/>
          <p:cNvGrpSpPr/>
          <p:nvPr/>
        </p:nvGrpSpPr>
        <p:grpSpPr>
          <a:xfrm>
            <a:off x="539640" y="1268280"/>
            <a:ext cx="8137440" cy="1366920"/>
            <a:chOff x="539640" y="1268280"/>
            <a:chExt cx="8137440" cy="1366920"/>
          </a:xfrm>
        </p:grpSpPr>
        <p:sp>
          <p:nvSpPr>
            <p:cNvPr id="695" name="Rectangle 8"/>
            <p:cNvSpPr/>
            <p:nvPr/>
          </p:nvSpPr>
          <p:spPr>
            <a:xfrm>
              <a:off x="539640" y="1268280"/>
              <a:ext cx="8137440" cy="1366920"/>
            </a:xfrm>
            <a:prstGeom prst="rect">
              <a:avLst/>
            </a:prstGeom>
            <a:solidFill>
              <a:srgbClr val="50742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7"/>
            <p:cNvSpPr/>
            <p:nvPr/>
          </p:nvSpPr>
          <p:spPr>
            <a:xfrm>
              <a:off x="2228040" y="1501560"/>
              <a:ext cx="4752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在同圆或等圆中，相等的圆心角所对的弦相等，所对的弧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也相等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;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相等的弦或相等的弧所对的圆心角相等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Text Box 9"/>
          <p:cNvSpPr/>
          <p:nvPr/>
        </p:nvSpPr>
        <p:spPr>
          <a:xfrm>
            <a:off x="1405080" y="42782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相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10"/>
          <p:cNvSpPr/>
          <p:nvPr/>
        </p:nvSpPr>
        <p:spPr>
          <a:xfrm>
            <a:off x="3675240" y="429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相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11"/>
          <p:cNvSpPr/>
          <p:nvPr/>
        </p:nvSpPr>
        <p:spPr>
          <a:xfrm>
            <a:off x="1407960" y="52754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相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2"/>
          <p:cNvSpPr/>
          <p:nvPr/>
        </p:nvSpPr>
        <p:spPr>
          <a:xfrm>
            <a:off x="3708360" y="52992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相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Group 16"/>
          <p:cNvGrpSpPr/>
          <p:nvPr/>
        </p:nvGrpSpPr>
        <p:grpSpPr>
          <a:xfrm>
            <a:off x="6877080" y="3429000"/>
            <a:ext cx="1944720" cy="2736720"/>
            <a:chOff x="6877080" y="3429000"/>
            <a:chExt cx="1944720" cy="2736720"/>
          </a:xfrm>
        </p:grpSpPr>
        <p:sp>
          <p:nvSpPr>
            <p:cNvPr id="702" name="Rectangle 14"/>
            <p:cNvSpPr/>
            <p:nvPr/>
          </p:nvSpPr>
          <p:spPr>
            <a:xfrm>
              <a:off x="6877080" y="3429000"/>
              <a:ext cx="1944720" cy="2736720"/>
            </a:xfrm>
            <a:prstGeom prst="rect">
              <a:avLst/>
            </a:prstGeom>
            <a:solidFill>
              <a:srgbClr val="50742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464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同圆或等圆中，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两个圆心角、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条弧、两条弦中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有一组量相等，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它们所对应的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余各组量也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等．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Oval 15"/>
            <p:cNvSpPr/>
            <p:nvPr/>
          </p:nvSpPr>
          <p:spPr>
            <a:xfrm>
              <a:off x="7769520" y="364464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5"/>
          <p:cNvSpPr/>
          <p:nvPr/>
        </p:nvSpPr>
        <p:spPr>
          <a:xfrm>
            <a:off x="777960" y="20397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证明：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6"/>
          <p:cNvSpPr/>
          <p:nvPr/>
        </p:nvSpPr>
        <p:spPr>
          <a:xfrm>
            <a:off x="1431720" y="2774880"/>
            <a:ext cx="29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∴  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AB=AC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△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等腰三角形．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1308240" y="3471840"/>
            <a:ext cx="16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又∠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CB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=60°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1377360" y="4264200"/>
            <a:ext cx="365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∴   △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是等边三角形，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B=BC=C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9"/>
          <p:cNvSpPr/>
          <p:nvPr/>
        </p:nvSpPr>
        <p:spPr>
          <a:xfrm>
            <a:off x="1308240" y="5200560"/>
            <a:ext cx="29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∴  ∠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OB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＝∠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BOC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＝∠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OC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12"/>
          <p:cNvSpPr/>
          <p:nvPr/>
        </p:nvSpPr>
        <p:spPr>
          <a:xfrm>
            <a:off x="6084720" y="2276640"/>
            <a:ext cx="2449800" cy="24494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13"/>
          <p:cNvSpPr/>
          <p:nvPr/>
        </p:nvSpPr>
        <p:spPr>
          <a:xfrm>
            <a:off x="6275520" y="2286000"/>
            <a:ext cx="2084400" cy="18018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Freeform 14"/>
          <p:cNvSpPr/>
          <p:nvPr/>
        </p:nvSpPr>
        <p:spPr>
          <a:xfrm>
            <a:off x="6262560" y="3500280"/>
            <a:ext cx="1047960" cy="6001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Freeform 15"/>
          <p:cNvSpPr/>
          <p:nvPr/>
        </p:nvSpPr>
        <p:spPr>
          <a:xfrm>
            <a:off x="7300800" y="3514680"/>
            <a:ext cx="1081080" cy="5857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Freeform 16"/>
          <p:cNvSpPr/>
          <p:nvPr/>
        </p:nvSpPr>
        <p:spPr>
          <a:xfrm>
            <a:off x="7300800" y="2276640"/>
            <a:ext cx="14400" cy="12380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17"/>
          <p:cNvSpPr/>
          <p:nvPr/>
        </p:nvSpPr>
        <p:spPr>
          <a:xfrm>
            <a:off x="7164360" y="1844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8"/>
          <p:cNvSpPr/>
          <p:nvPr/>
        </p:nvSpPr>
        <p:spPr>
          <a:xfrm>
            <a:off x="5796000" y="414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19"/>
          <p:cNvSpPr/>
          <p:nvPr/>
        </p:nvSpPr>
        <p:spPr>
          <a:xfrm>
            <a:off x="8459640" y="414972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20"/>
          <p:cNvSpPr/>
          <p:nvPr/>
        </p:nvSpPr>
        <p:spPr>
          <a:xfrm>
            <a:off x="6877080" y="3213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8" name="Object 21"/>
          <p:cNvGraphicFramePr/>
          <p:nvPr/>
        </p:nvGraphicFramePr>
        <p:xfrm>
          <a:off x="1835280" y="2025720"/>
          <a:ext cx="12952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9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025720"/>
                    <a:ext cx="1295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0" name="Text Box 25"/>
          <p:cNvSpPr/>
          <p:nvPr/>
        </p:nvSpPr>
        <p:spPr>
          <a:xfrm>
            <a:off x="395280" y="189000"/>
            <a:ext cx="151272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例题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30"/>
          <p:cNvGrpSpPr/>
          <p:nvPr/>
        </p:nvGrpSpPr>
        <p:grpSpPr>
          <a:xfrm>
            <a:off x="684360" y="820800"/>
            <a:ext cx="7127640" cy="906480"/>
            <a:chOff x="684360" y="820800"/>
            <a:chExt cx="7127640" cy="906480"/>
          </a:xfrm>
        </p:grpSpPr>
        <p:sp>
          <p:nvSpPr>
            <p:cNvPr id="722" name="Text Box 4"/>
            <p:cNvSpPr/>
            <p:nvPr/>
          </p:nvSpPr>
          <p:spPr>
            <a:xfrm>
              <a:off x="684360" y="901800"/>
              <a:ext cx="712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如图在⊙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中，               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，∠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CB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°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，求证∠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OB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OC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OC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3" name="Object 29"/>
            <p:cNvGraphicFramePr/>
            <p:nvPr/>
          </p:nvGraphicFramePr>
          <p:xfrm>
            <a:off x="3274920" y="820800"/>
            <a:ext cx="1297080" cy="507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4" name="Object 2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74920" y="820800"/>
                      <a:ext cx="129708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4"/>
          <p:cNvSpPr/>
          <p:nvPr/>
        </p:nvSpPr>
        <p:spPr>
          <a:xfrm>
            <a:off x="179280" y="936720"/>
            <a:ext cx="8964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如图，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D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是⊙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的两条弦．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）如果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B=CD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，那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．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）如果                  ，那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．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）如果∠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OB=∠COD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，那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．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）如果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B=CD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O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⊥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于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⊥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D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于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OE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相等吗？为什么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Group 28"/>
          <p:cNvGrpSpPr/>
          <p:nvPr/>
        </p:nvGrpSpPr>
        <p:grpSpPr>
          <a:xfrm>
            <a:off x="4716360" y="3933720"/>
            <a:ext cx="3276720" cy="2600280"/>
            <a:chOff x="4716360" y="3933720"/>
            <a:chExt cx="3276720" cy="2600280"/>
          </a:xfrm>
        </p:grpSpPr>
        <p:sp>
          <p:nvSpPr>
            <p:cNvPr id="727" name="Oval 6"/>
            <p:cNvSpPr/>
            <p:nvPr/>
          </p:nvSpPr>
          <p:spPr>
            <a:xfrm>
              <a:off x="5003640" y="3933720"/>
              <a:ext cx="2449800" cy="24494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Arial"/>
                </a:rPr>
                <a:t>·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Group 12"/>
            <p:cNvGrpSpPr/>
            <p:nvPr/>
          </p:nvGrpSpPr>
          <p:grpSpPr>
            <a:xfrm>
              <a:off x="5138640" y="4443120"/>
              <a:ext cx="2097360" cy="727200"/>
              <a:chOff x="5138640" y="4443120"/>
              <a:chExt cx="2097360" cy="727200"/>
            </a:xfrm>
          </p:grpSpPr>
          <p:sp>
            <p:nvSpPr>
              <p:cNvPr id="729" name="Line 7"/>
              <p:cNvSpPr/>
              <p:nvPr/>
            </p:nvSpPr>
            <p:spPr>
              <a:xfrm flipV="1">
                <a:off x="5141880" y="4443120"/>
                <a:ext cx="2087640" cy="144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Line 8"/>
              <p:cNvSpPr/>
              <p:nvPr/>
            </p:nvSpPr>
            <p:spPr>
              <a:xfrm>
                <a:off x="6146640" y="4521240"/>
                <a:ext cx="71640" cy="64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9"/>
              <p:cNvSpPr/>
              <p:nvPr/>
            </p:nvSpPr>
            <p:spPr>
              <a:xfrm>
                <a:off x="5138640" y="4594320"/>
                <a:ext cx="1079640" cy="5760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Line 10"/>
              <p:cNvSpPr/>
              <p:nvPr/>
            </p:nvSpPr>
            <p:spPr>
              <a:xfrm flipV="1">
                <a:off x="6227640" y="4449600"/>
                <a:ext cx="1008360" cy="720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Freeform 11"/>
              <p:cNvSpPr/>
              <p:nvPr/>
            </p:nvSpPr>
            <p:spPr>
              <a:xfrm rot="15900000">
                <a:off x="6159960" y="4516560"/>
                <a:ext cx="71640" cy="73080"/>
              </a:xfrm>
              <a:prstGeom prst="pie">
                <a:avLst/>
              </a:pr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20"/>
            <p:cNvGrpSpPr/>
            <p:nvPr/>
          </p:nvGrpSpPr>
          <p:grpSpPr>
            <a:xfrm>
              <a:off x="5572080" y="5167080"/>
              <a:ext cx="1870200" cy="1028880"/>
              <a:chOff x="5572080" y="5167080"/>
              <a:chExt cx="1870200" cy="1028880"/>
            </a:xfrm>
          </p:grpSpPr>
          <p:sp>
            <p:nvSpPr>
              <p:cNvPr id="735" name="Freeform 14"/>
              <p:cNvSpPr/>
              <p:nvPr/>
            </p:nvSpPr>
            <p:spPr>
              <a:xfrm>
                <a:off x="5576760" y="5308560"/>
                <a:ext cx="1862280" cy="88740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Line 15"/>
              <p:cNvSpPr/>
              <p:nvPr/>
            </p:nvSpPr>
            <p:spPr>
              <a:xfrm flipH="1" flipV="1">
                <a:off x="6224040" y="5167080"/>
                <a:ext cx="307440" cy="576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Line 16"/>
              <p:cNvSpPr/>
              <p:nvPr/>
            </p:nvSpPr>
            <p:spPr>
              <a:xfrm flipH="1" flipV="1">
                <a:off x="6226200" y="5167440"/>
                <a:ext cx="1216080" cy="134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17"/>
              <p:cNvSpPr/>
              <p:nvPr/>
            </p:nvSpPr>
            <p:spPr>
              <a:xfrm>
                <a:off x="5572080" y="5172120"/>
                <a:ext cx="644400" cy="101916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18"/>
              <p:cNvSpPr/>
              <p:nvPr/>
            </p:nvSpPr>
            <p:spPr>
              <a:xfrm rot="9600000">
                <a:off x="6515280" y="5626800"/>
                <a:ext cx="71280" cy="7308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0" name="Text Box 21"/>
            <p:cNvSpPr/>
            <p:nvPr/>
          </p:nvSpPr>
          <p:spPr>
            <a:xfrm>
              <a:off x="5148360" y="616572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Text Box 22"/>
            <p:cNvSpPr/>
            <p:nvPr/>
          </p:nvSpPr>
          <p:spPr>
            <a:xfrm>
              <a:off x="4716360" y="429264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Text Box 23"/>
            <p:cNvSpPr/>
            <p:nvPr/>
          </p:nvSpPr>
          <p:spPr>
            <a:xfrm>
              <a:off x="7236000" y="4221000"/>
              <a:ext cx="46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Text Box 24"/>
            <p:cNvSpPr/>
            <p:nvPr/>
          </p:nvSpPr>
          <p:spPr>
            <a:xfrm>
              <a:off x="7524720" y="515772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Text Box 25"/>
            <p:cNvSpPr/>
            <p:nvPr/>
          </p:nvSpPr>
          <p:spPr>
            <a:xfrm>
              <a:off x="5940360" y="414972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Text Box 26"/>
            <p:cNvSpPr/>
            <p:nvPr/>
          </p:nvSpPr>
          <p:spPr>
            <a:xfrm>
              <a:off x="6443640" y="573408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27"/>
            <p:cNvSpPr/>
            <p:nvPr/>
          </p:nvSpPr>
          <p:spPr>
            <a:xfrm>
              <a:off x="5796000" y="507852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47" name="Object 30"/>
          <p:cNvGraphicFramePr/>
          <p:nvPr/>
        </p:nvGraphicFramePr>
        <p:xfrm>
          <a:off x="3419640" y="1341360"/>
          <a:ext cx="115236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341360"/>
                    <a:ext cx="11523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31"/>
          <p:cNvGraphicFramePr/>
          <p:nvPr/>
        </p:nvGraphicFramePr>
        <p:xfrm>
          <a:off x="5003640" y="1341360"/>
          <a:ext cx="2160720" cy="36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0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341360"/>
                    <a:ext cx="216072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Rectangle 32"/>
          <p:cNvSpPr/>
          <p:nvPr/>
        </p:nvSpPr>
        <p:spPr>
          <a:xfrm>
            <a:off x="3997800" y="1839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AB=C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Object 33"/>
          <p:cNvGraphicFramePr/>
          <p:nvPr/>
        </p:nvGraphicFramePr>
        <p:xfrm>
          <a:off x="1476360" y="1746360"/>
          <a:ext cx="1224000" cy="4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3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1746360"/>
                    <a:ext cx="12240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4" name="Object 35"/>
          <p:cNvGraphicFramePr/>
          <p:nvPr/>
        </p:nvGraphicFramePr>
        <p:xfrm>
          <a:off x="5651640" y="1854360"/>
          <a:ext cx="1655640" cy="27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5" name="Object 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1640" y="1854360"/>
                    <a:ext cx="1655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6" name="Object 38"/>
          <p:cNvGraphicFramePr/>
          <p:nvPr/>
        </p:nvGraphicFramePr>
        <p:xfrm>
          <a:off x="4441680" y="2233440"/>
          <a:ext cx="115092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7" name="Object 3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41680" y="2233440"/>
                    <a:ext cx="11509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Rectangle 41"/>
          <p:cNvSpPr/>
          <p:nvPr/>
        </p:nvSpPr>
        <p:spPr>
          <a:xfrm>
            <a:off x="6445800" y="23223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隶书"/>
              </a:rPr>
              <a:t>AB=C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2"/>
          <p:cNvSpPr/>
          <p:nvPr/>
        </p:nvSpPr>
        <p:spPr>
          <a:xfrm>
            <a:off x="1044720" y="3429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相            等   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3"/>
          <p:cNvSpPr/>
          <p:nvPr/>
        </p:nvSpPr>
        <p:spPr>
          <a:xfrm>
            <a:off x="324000" y="3860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因为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，所以∠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AOB=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O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4"/>
          <p:cNvSpPr/>
          <p:nvPr/>
        </p:nvSpPr>
        <p:spPr>
          <a:xfrm>
            <a:off x="324000" y="429264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又因为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AO=CO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BO=DO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5"/>
          <p:cNvSpPr/>
          <p:nvPr/>
        </p:nvSpPr>
        <p:spPr>
          <a:xfrm>
            <a:off x="324000" y="47912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所以△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AOB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≌ △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O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6"/>
          <p:cNvSpPr/>
          <p:nvPr/>
        </p:nvSpPr>
        <p:spPr>
          <a:xfrm>
            <a:off x="324000" y="5373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又因为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O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OF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与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D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对应边上的高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7"/>
          <p:cNvSpPr/>
          <p:nvPr/>
        </p:nvSpPr>
        <p:spPr>
          <a:xfrm>
            <a:off x="1260360" y="6021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所以 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O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= 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OF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8"/>
          <p:cNvSpPr/>
          <p:nvPr/>
        </p:nvSpPr>
        <p:spPr>
          <a:xfrm>
            <a:off x="395280" y="260280"/>
            <a:ext cx="144000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练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4"/>
          <p:cNvSpPr/>
          <p:nvPr/>
        </p:nvSpPr>
        <p:spPr>
          <a:xfrm>
            <a:off x="833040" y="430200"/>
            <a:ext cx="682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图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直径，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D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O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度数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Group 17"/>
          <p:cNvGrpSpPr/>
          <p:nvPr/>
        </p:nvGrpSpPr>
        <p:grpSpPr>
          <a:xfrm>
            <a:off x="684360" y="1989000"/>
            <a:ext cx="3313080" cy="2808360"/>
            <a:chOff x="684360" y="1989000"/>
            <a:chExt cx="3313080" cy="2808360"/>
          </a:xfrm>
        </p:grpSpPr>
        <p:sp>
          <p:nvSpPr>
            <p:cNvPr id="768" name="Oval 5"/>
            <p:cNvSpPr/>
            <p:nvPr/>
          </p:nvSpPr>
          <p:spPr>
            <a:xfrm>
              <a:off x="1042920" y="2347920"/>
              <a:ext cx="2449440" cy="24494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Arial"/>
                </a:rPr>
                <a:t>·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6"/>
            <p:cNvSpPr/>
            <p:nvPr/>
          </p:nvSpPr>
          <p:spPr>
            <a:xfrm>
              <a:off x="1042920" y="3591000"/>
              <a:ext cx="24494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8"/>
            <p:cNvSpPr/>
            <p:nvPr/>
          </p:nvSpPr>
          <p:spPr>
            <a:xfrm flipV="1">
              <a:off x="2271240" y="2884320"/>
              <a:ext cx="1002960" cy="7020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9"/>
            <p:cNvSpPr/>
            <p:nvPr/>
          </p:nvSpPr>
          <p:spPr>
            <a:xfrm flipV="1">
              <a:off x="2265840" y="2439000"/>
              <a:ext cx="418320" cy="11498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10"/>
            <p:cNvSpPr/>
            <p:nvPr/>
          </p:nvSpPr>
          <p:spPr>
            <a:xfrm flipH="1" flipV="1">
              <a:off x="1943280" y="2397240"/>
              <a:ext cx="316800" cy="1182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Text Box 11"/>
            <p:cNvSpPr/>
            <p:nvPr/>
          </p:nvSpPr>
          <p:spPr>
            <a:xfrm>
              <a:off x="684360" y="342900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Text Box 12"/>
            <p:cNvSpPr/>
            <p:nvPr/>
          </p:nvSpPr>
          <p:spPr>
            <a:xfrm>
              <a:off x="2050920" y="3645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Text Box 13"/>
            <p:cNvSpPr/>
            <p:nvPr/>
          </p:nvSpPr>
          <p:spPr>
            <a:xfrm>
              <a:off x="3564000" y="35006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4"/>
            <p:cNvSpPr/>
            <p:nvPr/>
          </p:nvSpPr>
          <p:spPr>
            <a:xfrm>
              <a:off x="3276720" y="26305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5"/>
            <p:cNvSpPr/>
            <p:nvPr/>
          </p:nvSpPr>
          <p:spPr>
            <a:xfrm>
              <a:off x="2627280" y="20541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6"/>
            <p:cNvSpPr/>
            <p:nvPr/>
          </p:nvSpPr>
          <p:spPr>
            <a:xfrm>
              <a:off x="1692360" y="1989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9" name="Object 18"/>
          <p:cNvGraphicFramePr/>
          <p:nvPr/>
        </p:nvGraphicFramePr>
        <p:xfrm>
          <a:off x="4859280" y="2205000"/>
          <a:ext cx="2343240" cy="4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205000"/>
                    <a:ext cx="23432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Object 19"/>
          <p:cNvGraphicFramePr/>
          <p:nvPr/>
        </p:nvGraphicFramePr>
        <p:xfrm>
          <a:off x="4859280" y="3017880"/>
          <a:ext cx="396396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2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017880"/>
                    <a:ext cx="39639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3" name="Object 20"/>
          <p:cNvGraphicFramePr/>
          <p:nvPr/>
        </p:nvGraphicFramePr>
        <p:xfrm>
          <a:off x="4830840" y="3665520"/>
          <a:ext cx="313992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4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30840" y="3665520"/>
                    <a:ext cx="31399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Object 21"/>
          <p:cNvGraphicFramePr/>
          <p:nvPr/>
        </p:nvGraphicFramePr>
        <p:xfrm>
          <a:off x="6113520" y="4292640"/>
          <a:ext cx="720720" cy="41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6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3520" y="4292640"/>
                    <a:ext cx="7207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7" name="Text Box 22"/>
          <p:cNvSpPr/>
          <p:nvPr/>
        </p:nvSpPr>
        <p:spPr>
          <a:xfrm>
            <a:off x="4248000" y="1628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Object 24"/>
          <p:cNvGraphicFramePr/>
          <p:nvPr/>
        </p:nvGraphicFramePr>
        <p:xfrm>
          <a:off x="3851280" y="404640"/>
          <a:ext cx="2016000" cy="51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9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1280" y="404640"/>
                    <a:ext cx="20160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01:18:52Z</dcterms:created>
  <dc:creator/>
  <dc:description/>
  <dc:language>en-US</dc:language>
  <cp:lastModifiedBy>微软用户</cp:lastModifiedBy>
  <dcterms:modified xsi:type="dcterms:W3CDTF">2010-11-05T06:38:36Z</dcterms:modified>
  <cp:revision>1</cp:revision>
  <dc:subject/>
  <dc:title/>
</cp:coreProperties>
</file>